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B193-85B6-46BF-9FBA-CA7F50B5D2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83DC-90C7-4E92-8C0F-48EDB78789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CEB4-271E-4781-972E-E4512B80D69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A138-35CF-46EE-A34C-51B5BC7096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068B-8F1A-4FAC-9E78-307594F63D5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DB2A-99ED-4677-B573-DE6AC7CC667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ECD2-CEDC-4AA4-BD0D-3EF7816317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2EFEC-96BF-4485-9ACB-C9A53311AE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0141-FF51-4CD8-8E09-76AC2392F0B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5D2-2DBA-494D-AC2F-2ED2C850F1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01C-211B-4C22-B6D9-BB86DD30F6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E23D-F6EF-432E-84F9-C70814AA0C69}" type="slidenum">
              <a:rPr b="0" lang="ko-KR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幻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EB39-FB58-403C-8699-43D7848D5C2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D003-49F3-4D24-9D87-5CDA3A7069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6454-C215-496E-91FF-FDB9BF0EA6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539640" y="720720"/>
            <a:ext cx="5761080" cy="4319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灯片编号占位符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13FE-CAF6-41E2-B59B-A04A36223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1E1-B535-414D-800C-EBA00ACD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770-3489-4354-9961-21FC1690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A816-2DA0-4619-B777-610B32F3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B9-97DE-4E29-8B20-8F8D9500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27C-D1FC-4CF4-A73F-FBE970A8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9883-7108-4DAE-B649-24B2230F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421-9544-4642-BDC7-761146F9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D5F-AA05-4322-A1F4-F88FF0C9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BF78-89CD-462D-99CD-02EBE3B3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B86-2D13-40B9-A173-2EC30D2E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705B-B948-48F9-B243-2E6B4F50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A6D6-024D-4552-BC3A-7514D5B0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10AF-6172-4ECE-A193-45055A6DE8C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639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"/>
          <p:cNvPicPr/>
          <p:nvPr/>
        </p:nvPicPr>
        <p:blipFill>
          <a:blip r:embed="rId1"/>
          <a:stretch/>
        </p:blipFill>
        <p:spPr>
          <a:xfrm>
            <a:off x="0" y="242100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1052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3" descr=""/>
          <p:cNvPicPr/>
          <p:nvPr/>
        </p:nvPicPr>
        <p:blipFill>
          <a:blip r:embed="rId1"/>
          <a:stretch/>
        </p:blipFill>
        <p:spPr>
          <a:xfrm>
            <a:off x="355680" y="506520"/>
            <a:ext cx="8432640" cy="62355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62080" y="0"/>
            <a:ext cx="86198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"/>
          <p:cNvPicPr/>
          <p:nvPr/>
        </p:nvPicPr>
        <p:blipFill>
          <a:blip r:embed="rId1"/>
          <a:stretch/>
        </p:blipFill>
        <p:spPr>
          <a:xfrm>
            <a:off x="23760" y="1593720"/>
            <a:ext cx="9096480" cy="36705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2" descr=""/>
          <p:cNvPicPr/>
          <p:nvPr/>
        </p:nvPicPr>
        <p:blipFill>
          <a:blip r:embed="rId1"/>
          <a:stretch/>
        </p:blipFill>
        <p:spPr>
          <a:xfrm>
            <a:off x="279360" y="1844640"/>
            <a:ext cx="8585280" cy="233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2" descr=""/>
          <p:cNvPicPr/>
          <p:nvPr/>
        </p:nvPicPr>
        <p:blipFill>
          <a:blip r:embed="rId1"/>
          <a:stretch/>
        </p:blipFill>
        <p:spPr>
          <a:xfrm>
            <a:off x="407880" y="1073160"/>
            <a:ext cx="832824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3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530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3431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2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6834240" cy="442584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2" descr="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1" descr=""/>
          <p:cNvPicPr/>
          <p:nvPr/>
        </p:nvPicPr>
        <p:blipFill>
          <a:blip r:embed="rId1"/>
          <a:stretch/>
        </p:blipFill>
        <p:spPr>
          <a:xfrm>
            <a:off x="407880" y="1069920"/>
            <a:ext cx="8328240" cy="538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8537040" y="6527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930240" y="228600"/>
            <a:ext cx="389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同理心倾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mpathic List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7720" y="6600960"/>
            <a:ext cx="4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b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12560" y="6524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861840" y="6607080"/>
            <a:ext cx="29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eek First to Understand, Then to Be Understo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723960" y="6629400"/>
            <a:ext cx="0" cy="195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"/>
          <p:cNvPicPr/>
          <p:nvPr/>
        </p:nvPicPr>
        <p:blipFill>
          <a:blip r:embed="rId1"/>
          <a:stretch/>
        </p:blipFill>
        <p:spPr>
          <a:xfrm>
            <a:off x="36360" y="1236600"/>
            <a:ext cx="9071280" cy="4384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2T12:06:56Z</dcterms:created>
  <dc:creator>shentong6903@163.com</dc:creator>
  <dc:description/>
  <dc:language>en-US</dc:language>
  <cp:lastModifiedBy>Joanna</cp:lastModifiedBy>
  <cp:lastPrinted>2017-05-02T00:32:14Z</cp:lastPrinted>
  <dcterms:modified xsi:type="dcterms:W3CDTF">2019-05-16T01:46:35Z</dcterms:modified>
  <cp:revision>1199</cp:revision>
  <dc:subject/>
  <dc:title>幻灯片 1</dc:title>
</cp:coreProperties>
</file>